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eer to peer and teacher to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ne facilitating and one recording collecting spontaneously what we do ourselves as providing responding to students in the mo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to lesson 4  patterning and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ought we should do one as an example just to make sure that everybody knew what was going on (I hate to model but I think it’s needed...what do you all think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FF75-CA62-4BB4-900C-FCA53D407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E575-14C1-44B5-A7FD-6B713DEB3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8A2B-4826-4D2D-B346-4E8806549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A751-1B91-420F-B347-9E0373A08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55BB-B8F0-4A6C-A18A-CD59815F28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3014-211B-4A58-9B0A-314D5386B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71AB-2F25-47FE-93E9-342AF5856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C8ED-46AC-425F-B9DC-22F03717D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814E-A23B-4164-9156-E6B9667F7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494C-67B6-441A-927A-D6B79BF17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CD70-095E-4093-87FE-5D48B8646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3446-1E62-49D4-A0DA-72AA699E5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5B01-9CAB-4ADE-A0B8-F369BEC9C9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15B9-0D92-4F32-BC89-E4197DF8FA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sponding to Students in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what you were saying to your partner while walking around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Telling?  Showing?  Guiding?  Questioning?  Wa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have enough think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else do we respond to students in the mo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8733-273D-4F54-8527-BB93671C72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Beach Images\Beach &amp; Water (K - P)\Life Preserver 04.wmf"/>
          <p:cNvPicPr/>
          <p:nvPr/>
        </p:nvPicPr>
        <p:blipFill>
          <a:blip r:embed="rId2"/>
          <a:stretch/>
        </p:blipFill>
        <p:spPr>
          <a:xfrm>
            <a:off x="6961320" y="2971800"/>
            <a:ext cx="2182680" cy="134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Secret Ru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you will be getting a new secret pattern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you will create a tile representation (one colour only this time) of the pattern rule (but none of you can have the same geometric desi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2556-726E-4D93-B548-C41FAE3852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able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find the other table who had the same pattern rule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anybody at the other table have the same geometric design you h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choose a different table and find the other table that had the same rule.  Did their designs look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F57A-0B8A-4139-9FB7-B107982725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having only 1 colour make it more difficult to find your table match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might have made it more difficult to find your matching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DC8B-F6E1-45C8-B8EA-7CFFF05A2F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the purpose of this activity would have b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134A-162A-47A8-8912-15BFFF76D7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nly position #2, determine my pattern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ome individual think time, share as a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3CE2-C185-4249-80BD-3ABDF95969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809880" y="1523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114800" y="1523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80988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11480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41972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3505320" y="19810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809880" y="2438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114800" y="2438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86200" y="2971800"/>
            <a:ext cx="434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thematics came out of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is problem further our goal to discuss the big idea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F7FF-DB7C-4FA2-83B0-EC9CE1A99A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Pattern Rule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if time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your own secret pattern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 think you’re ready to try and trick each other a bi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table try to determine the rule you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F0FF-76D3-4309-AE1B-CFA6E02E35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short video of a Grade 7 class participating in a similar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look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multiplicative thinking and 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teachers are responding to the students in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CA62-28AA-4D4B-803F-7521671A05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 – Discuss at tabl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re evidence of multiplicative thinking and generaliz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eachers responding to the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your first thou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the students engaged in the m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else you no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EE0E-8F37-47D2-A883-B067A90659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1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74A0-610B-4286-B224-331550A60D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:\Beach Images\Beach &amp; Water (C - G)\Diving In 12.wmf"/>
          <p:cNvPicPr/>
          <p:nvPr/>
        </p:nvPicPr>
        <p:blipFill>
          <a:blip r:embed="rId1"/>
          <a:stretch/>
        </p:blipFill>
        <p:spPr>
          <a:xfrm>
            <a:off x="3581280" y="1676520"/>
            <a:ext cx="2551320" cy="320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D90E-0728-4458-ADB2-4A0944A6DD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(Did we meet them?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create geometric patterns and use them to support our own understanding of multiplicative thinking, generalizations and multiple re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 begin discussing the idea of responding to students in the mo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E247-680C-448E-8640-6CC6C234D2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63B2-9017-4F66-B24E-C23A96E59E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E:\Beach Images\Landscapes (A - Ci)\Beach Scene 29.wmf"/>
          <p:cNvPicPr/>
          <p:nvPr/>
        </p:nvPicPr>
        <p:blipFill>
          <a:blip r:embed="rId2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’ve been engaged in the math throughout this breakout we would like you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the exit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how you’re feeling about P&amp;A 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D46D-8353-4D61-AF42-031E38BC10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ntrance Card</a:t>
            </a: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mplete the following entranc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terested to hear how you’re feeling about Patterning &amp; Algebra after the first 2 Plenary S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D2B7-BCC9-43B7-BCDE-D3F6746ED0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cret Rule Ga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you will be g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ret pattern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Tiles (use 2 col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lour tiles to create 1 tile representation of the secret pattern you are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6AB2-0C03-4743-BF42-65B2E4E922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uess my Rul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B3EF-DDB6-4B37-8C95-4E313F467E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6002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952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3526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952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907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65760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65760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81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65760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65760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324480" y="20574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324480" y="23623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6324480" y="17524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324480" y="297180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324480" y="327672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12193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35812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62485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8"/>
          <p:cNvSpPr/>
          <p:nvPr/>
        </p:nvSpPr>
        <p:spPr>
          <a:xfrm>
            <a:off x="91440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tiles = (position number) x          +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2388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9343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6294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410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1500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0199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26708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62520" y="26668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2952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32448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657600" y="2666880"/>
            <a:ext cx="266760" cy="2746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38088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324480" y="3581280"/>
            <a:ext cx="2667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ake your Patterns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CF6A-D451-4806-ACCD-A2D24FD085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676520"/>
            <a:ext cx="358956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able Wal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walk around and determine the secret rules of the different representations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pattern rules on your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42D1-819F-4EA3-805B-D0CA06B2A7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ques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atterns did you have a hard time figuring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the 2 colours help you se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the visual representation allow you to determine the r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feedback about this activ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0DB2-01F9-4592-A89F-CA4FFD2C3F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&amp; Algebr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he following 2 Big Ideas in P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ere these big ideas brought out in this 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76C6-4D3F-45CD-B096-1719051FE6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d.wines</cp:lastModifiedBy>
  <dcterms:modified xsi:type="dcterms:W3CDTF">2011-08-05T17:26:31Z</dcterms:modified>
  <cp:revision>66</cp:revision>
  <dc:subject/>
  <dc:title>&lt;Title&gt;</dc:title>
</cp:coreProperties>
</file>